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5BF9-7E1B-4353-B8CA-3B814E22C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20A5-EF21-4143-9388-D716D4704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F97D-37CB-4054-9DD3-3554C0371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B8AE-D610-48D5-83DC-0FE62D97F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9759F-B32A-49AF-97DC-0536C269E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C7F25-16FF-48CF-9AC9-41708FE37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65822-32A1-4DE1-8051-11C097128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72266-7FDB-452C-919C-C57ED1E7F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C1543-EC73-4602-9DB4-8DA9DC0FF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7B249-EF99-4C60-90EA-EBF5EE6ED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7EA19-E8A2-434E-8F93-C383D5CB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887F-6FC6-4AB6-ADEB-76DDF2B1B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3BE4E-65C3-4598-B9CB-4E322A16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43B14-E409-446A-96E3-8D1E1F22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DD3F4-8E0C-4353-AB20-210983A4C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D3A84-2D48-4070-8213-5BCB9CCCA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A866E-E98D-4B25-BB75-0F05A4AE4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7CA6-F82D-4852-844C-8A6EB8FA7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2181-6A91-4BEE-8E21-D7C439798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C712-858F-4FFB-AD2E-A26AD4F70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D3C0-8AA4-4455-8CC5-3CC110FC4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AAE8-EF8A-4409-B4B6-C1A3A4B8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AA57-2BF0-40CE-A16B-5201843D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23D4-F8B9-4D9C-8C27-8F8A0135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2A4DC-D45A-49D1-844E-2E4910917A9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79A5C-AA92-46F1-9A10-BAB5565E216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800" y="549360"/>
            <a:ext cx="77724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50920" y="692280"/>
          <a:ext cx="8497800" cy="2867040"/>
        </p:xfrm>
        <a:graphic>
          <a:graphicData uri="http://schemas.openxmlformats.org/drawingml/2006/table">
            <a:tbl>
              <a:tblPr/>
              <a:tblGrid>
                <a:gridCol w="5468760"/>
                <a:gridCol w="3029040"/>
              </a:tblGrid>
              <a:tr h="288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33480"/>
                          <a:tab algn="l" pos="1866960"/>
                          <a:tab algn="l" pos="2800440"/>
                          <a:tab algn="l" pos="3733920"/>
                          <a:tab algn="l" pos="4667400"/>
                          <a:tab algn="l" pos="5600880"/>
                          <a:tab algn="l" pos="6534000"/>
                          <a:tab algn="l" pos="7467480"/>
                          <a:tab algn="l" pos="8400960"/>
                          <a:tab algn="l" pos="9334440"/>
                          <a:tab algn="l" pos="1026792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ИСТЕМ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33480"/>
                          <a:tab algn="l" pos="1866960"/>
                          <a:tab algn="l" pos="2800440"/>
                          <a:tab algn="l" pos="3733920"/>
                          <a:tab algn="l" pos="4667400"/>
                          <a:tab algn="l" pos="5600880"/>
                          <a:tab algn="l" pos="6534000"/>
                          <a:tab algn="l" pos="7467480"/>
                          <a:tab algn="l" pos="8400960"/>
                          <a:tab algn="l" pos="9334440"/>
                          <a:tab algn="l" pos="1026792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33480"/>
                          <a:tab algn="l" pos="1866960"/>
                          <a:tab algn="l" pos="2800440"/>
                          <a:tab algn="l" pos="3733920"/>
                          <a:tab algn="l" pos="4667400"/>
                          <a:tab algn="l" pos="5600880"/>
                          <a:tab algn="l" pos="6534000"/>
                          <a:tab algn="l" pos="7467480"/>
                          <a:tab algn="l" pos="8400960"/>
                          <a:tab algn="l" pos="9334440"/>
                          <a:tab algn="l" pos="1026792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БАЛАНСИРОВАННЫХ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33480"/>
                          <a:tab algn="l" pos="1866960"/>
                          <a:tab algn="l" pos="2800440"/>
                          <a:tab algn="l" pos="3733920"/>
                          <a:tab algn="l" pos="4667400"/>
                          <a:tab algn="l" pos="5600880"/>
                          <a:tab algn="l" pos="6534000"/>
                          <a:tab algn="l" pos="7467480"/>
                          <a:tab algn="l" pos="8400960"/>
                          <a:tab algn="l" pos="9334440"/>
                          <a:tab algn="l" pos="1026792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КАЗАТЕЛЕ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ЕЙТИНГ-АНАЛИЗ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РАМАТУРГИЯ СОБЫТИЙ И ЯВЛЕН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"/>
          <p:cNvSpPr/>
          <p:nvPr/>
        </p:nvSpPr>
        <p:spPr>
          <a:xfrm rot="3372600">
            <a:off x="2529360" y="4050000"/>
            <a:ext cx="1150920" cy="343080"/>
          </a:xfrm>
          <a:prstGeom prst="rightArrow">
            <a:avLst>
              <a:gd name="adj1" fmla="val 50000"/>
              <a:gd name="adj2" fmla="val 83867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7222800">
            <a:off x="5536080" y="3976920"/>
            <a:ext cx="1150920" cy="343080"/>
          </a:xfrm>
          <a:prstGeom prst="rightArrow">
            <a:avLst>
              <a:gd name="adj1" fmla="val 50000"/>
              <a:gd name="adj2" fmla="val 83867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58920" y="523548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ТЕХНОЛОГИЯ ВНЕДРЕ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907920"/>
            <a:ext cx="2952720" cy="1068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Научная деятельност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43280" y="1184400"/>
            <a:ext cx="252108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недр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9640" y="3576600"/>
            <a:ext cx="2952720" cy="1068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Научная деятельност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3776760"/>
            <a:ext cx="252108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недр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1484280"/>
            <a:ext cx="792000" cy="142920"/>
          </a:xfrm>
          <a:prstGeom prst="rightArrow">
            <a:avLst>
              <a:gd name="adj1" fmla="val 50000"/>
              <a:gd name="adj2" fmla="val 138539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236000" y="1484280"/>
            <a:ext cx="792000" cy="142920"/>
          </a:xfrm>
          <a:prstGeom prst="rightArrow">
            <a:avLst>
              <a:gd name="adj1" fmla="val 50000"/>
              <a:gd name="adj2" fmla="val 138539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64000" y="4078440"/>
            <a:ext cx="792000" cy="142560"/>
          </a:xfrm>
          <a:prstGeom prst="rightArrow">
            <a:avLst>
              <a:gd name="adj1" fmla="val 50000"/>
              <a:gd name="adj2" fmla="val 138889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51640" y="4006800"/>
            <a:ext cx="792360" cy="142920"/>
          </a:xfrm>
          <a:prstGeom prst="rightArrow">
            <a:avLst>
              <a:gd name="adj1" fmla="val 50000"/>
              <a:gd name="adj2" fmla="val 138602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17080" y="374652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979640" y="620280"/>
            <a:ext cx="54720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КСПРЕСС ДИАГНОСТИ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79640" y="2276640"/>
            <a:ext cx="5472000" cy="15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РТА СБАЛАНСИРОВАННЫХ ПОКАЗАТЕЛЕ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79640" y="4435560"/>
            <a:ext cx="5472000" cy="577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ЕРОПРИЯТ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79640" y="5803920"/>
            <a:ext cx="5472000" cy="577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ПРАВЛЕНЧЕСКИЙ УЧЕ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00720" y="1773360"/>
            <a:ext cx="215640" cy="43164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00720" y="3933720"/>
            <a:ext cx="215640" cy="432000"/>
          </a:xfrm>
          <a:prstGeom prst="downArrow">
            <a:avLst>
              <a:gd name="adj1" fmla="val 50000"/>
              <a:gd name="adj2" fmla="val 50083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00720" y="5157720"/>
            <a:ext cx="215640" cy="432000"/>
          </a:xfrm>
          <a:prstGeom prst="downArrow">
            <a:avLst>
              <a:gd name="adj1" fmla="val 50000"/>
              <a:gd name="adj2" fmla="val 50083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646160" y="260280"/>
            <a:ext cx="430200" cy="287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79600" y="981000"/>
            <a:ext cx="430200" cy="287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08320" y="979560"/>
            <a:ext cx="430200" cy="287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47960" y="1917720"/>
            <a:ext cx="430200" cy="287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48320" y="979560"/>
            <a:ext cx="430200" cy="287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67240" y="1917720"/>
            <a:ext cx="430200" cy="287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01800" y="1917720"/>
            <a:ext cx="430200" cy="287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79600" y="1917720"/>
            <a:ext cx="430200" cy="287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5960" y="1917720"/>
            <a:ext cx="430200" cy="287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287960" y="1917720"/>
            <a:ext cx="430200" cy="287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008680" y="1917720"/>
            <a:ext cx="430200" cy="287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14880" y="979560"/>
            <a:ext cx="430200" cy="287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56320" y="1917720"/>
            <a:ext cx="430200" cy="287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305400" y="1917720"/>
            <a:ext cx="430200" cy="287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85040" y="979560"/>
            <a:ext cx="430200" cy="287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024680" y="1917720"/>
            <a:ext cx="430200" cy="287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70880" y="1917720"/>
            <a:ext cx="430200" cy="287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421000"/>
            <a:ext cx="9144000" cy="20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БЛОК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УПРАВЛЕНИЯ ЭФФЕКТИВНОСТЬЮ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7" name=""/>
          <p:cNvCxnSpPr/>
          <p:nvPr/>
        </p:nvCxnSpPr>
        <p:spPr>
          <a:xfrm>
            <a:off x="4862160" y="547560"/>
            <a:ext cx="108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28" name=""/>
          <p:cNvCxnSpPr/>
          <p:nvPr/>
        </p:nvCxnSpPr>
        <p:spPr>
          <a:xfrm>
            <a:off x="1693440" y="1341360"/>
            <a:ext cx="108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29" name=""/>
          <p:cNvCxnSpPr/>
          <p:nvPr/>
        </p:nvCxnSpPr>
        <p:spPr>
          <a:xfrm>
            <a:off x="1190160" y="1628280"/>
            <a:ext cx="10803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30" name=""/>
          <p:cNvCxnSpPr/>
          <p:nvPr/>
        </p:nvCxnSpPr>
        <p:spPr>
          <a:xfrm>
            <a:off x="1190160" y="1627200"/>
            <a:ext cx="108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31" name=""/>
          <p:cNvCxnSpPr/>
          <p:nvPr/>
        </p:nvCxnSpPr>
        <p:spPr>
          <a:xfrm>
            <a:off x="1693440" y="1628280"/>
            <a:ext cx="1080" cy="2185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32" name=""/>
          <p:cNvCxnSpPr/>
          <p:nvPr/>
        </p:nvCxnSpPr>
        <p:spPr>
          <a:xfrm>
            <a:off x="2269800" y="1628280"/>
            <a:ext cx="1080" cy="2185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33" name=""/>
          <p:cNvCxnSpPr/>
          <p:nvPr/>
        </p:nvCxnSpPr>
        <p:spPr>
          <a:xfrm>
            <a:off x="3422160" y="1341360"/>
            <a:ext cx="108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34" name=""/>
          <p:cNvCxnSpPr/>
          <p:nvPr/>
        </p:nvCxnSpPr>
        <p:spPr>
          <a:xfrm>
            <a:off x="3134880" y="1627200"/>
            <a:ext cx="108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35" name=""/>
          <p:cNvCxnSpPr/>
          <p:nvPr/>
        </p:nvCxnSpPr>
        <p:spPr>
          <a:xfrm>
            <a:off x="3782520" y="1628280"/>
            <a:ext cx="1080" cy="2185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36" name=""/>
          <p:cNvCxnSpPr/>
          <p:nvPr/>
        </p:nvCxnSpPr>
        <p:spPr>
          <a:xfrm>
            <a:off x="3134880" y="1628280"/>
            <a:ext cx="64836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37" name=""/>
          <p:cNvCxnSpPr/>
          <p:nvPr/>
        </p:nvCxnSpPr>
        <p:spPr>
          <a:xfrm>
            <a:off x="4789080" y="1341360"/>
            <a:ext cx="108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38" name=""/>
          <p:cNvCxnSpPr/>
          <p:nvPr/>
        </p:nvCxnSpPr>
        <p:spPr>
          <a:xfrm>
            <a:off x="4501800" y="1627200"/>
            <a:ext cx="108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39" name=""/>
          <p:cNvCxnSpPr/>
          <p:nvPr/>
        </p:nvCxnSpPr>
        <p:spPr>
          <a:xfrm>
            <a:off x="5149440" y="1628280"/>
            <a:ext cx="1080" cy="2185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40" name=""/>
          <p:cNvCxnSpPr/>
          <p:nvPr/>
        </p:nvCxnSpPr>
        <p:spPr>
          <a:xfrm>
            <a:off x="4501800" y="1628280"/>
            <a:ext cx="64836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41" name=""/>
          <p:cNvCxnSpPr/>
          <p:nvPr/>
        </p:nvCxnSpPr>
        <p:spPr>
          <a:xfrm>
            <a:off x="6230520" y="1341360"/>
            <a:ext cx="108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42" name=""/>
          <p:cNvCxnSpPr/>
          <p:nvPr/>
        </p:nvCxnSpPr>
        <p:spPr>
          <a:xfrm>
            <a:off x="5943240" y="1627200"/>
            <a:ext cx="108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43" name=""/>
          <p:cNvCxnSpPr/>
          <p:nvPr/>
        </p:nvCxnSpPr>
        <p:spPr>
          <a:xfrm>
            <a:off x="6590880" y="1628280"/>
            <a:ext cx="1080" cy="2185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44" name=""/>
          <p:cNvCxnSpPr/>
          <p:nvPr/>
        </p:nvCxnSpPr>
        <p:spPr>
          <a:xfrm>
            <a:off x="5943240" y="1628280"/>
            <a:ext cx="64836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45" name=""/>
          <p:cNvCxnSpPr/>
          <p:nvPr/>
        </p:nvCxnSpPr>
        <p:spPr>
          <a:xfrm>
            <a:off x="7598880" y="1341360"/>
            <a:ext cx="108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46" name=""/>
          <p:cNvCxnSpPr/>
          <p:nvPr/>
        </p:nvCxnSpPr>
        <p:spPr>
          <a:xfrm>
            <a:off x="7311600" y="1627200"/>
            <a:ext cx="108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47" name=""/>
          <p:cNvCxnSpPr/>
          <p:nvPr/>
        </p:nvCxnSpPr>
        <p:spPr>
          <a:xfrm>
            <a:off x="7959240" y="1628280"/>
            <a:ext cx="1080" cy="2185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48" name=""/>
          <p:cNvCxnSpPr/>
          <p:nvPr/>
        </p:nvCxnSpPr>
        <p:spPr>
          <a:xfrm>
            <a:off x="7311600" y="1628280"/>
            <a:ext cx="64836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49" name=""/>
          <p:cNvCxnSpPr/>
          <p:nvPr/>
        </p:nvCxnSpPr>
        <p:spPr>
          <a:xfrm>
            <a:off x="1550520" y="764640"/>
            <a:ext cx="6049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50" name=""/>
          <p:cNvCxnSpPr/>
          <p:nvPr/>
        </p:nvCxnSpPr>
        <p:spPr>
          <a:xfrm>
            <a:off x="1550520" y="764640"/>
            <a:ext cx="1080" cy="2185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51" name=""/>
          <p:cNvCxnSpPr/>
          <p:nvPr/>
        </p:nvCxnSpPr>
        <p:spPr>
          <a:xfrm>
            <a:off x="7598880" y="764640"/>
            <a:ext cx="1080" cy="2185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52" name=""/>
          <p:cNvCxnSpPr/>
          <p:nvPr/>
        </p:nvCxnSpPr>
        <p:spPr>
          <a:xfrm>
            <a:off x="6230520" y="764640"/>
            <a:ext cx="1080" cy="2185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53" name=""/>
          <p:cNvCxnSpPr/>
          <p:nvPr/>
        </p:nvCxnSpPr>
        <p:spPr>
          <a:xfrm>
            <a:off x="4862160" y="764640"/>
            <a:ext cx="1080" cy="2185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54" name=""/>
          <p:cNvCxnSpPr/>
          <p:nvPr/>
        </p:nvCxnSpPr>
        <p:spPr>
          <a:xfrm>
            <a:off x="3422160" y="764640"/>
            <a:ext cx="1080" cy="2185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971640" y="260280"/>
            <a:ext cx="7200720" cy="231156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БЛОК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УПРАВЛЕНИЯ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ЭФФЕКТИВНОСТЬЮ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32000" y="2997360"/>
            <a:ext cx="626436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Times New Roman"/>
              </a:rPr>
              <a:t>-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АЗРАБОТКА, СОПРОВОЖДЕНИ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 КОНТРОЛЬ ПОВЫШЕНИЯ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ЭФФЕКТИВН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ЛАНИРОВАНИЕ,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СТАВЛЕНИЕ И АНАЛИЗ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ПРАВЛЕНЧЕСКОГО УЧЕ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42472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ЕЗУЛЬТА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08000" y="2565360"/>
            <a:ext cx="1295640" cy="225360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ибыл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005 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13440" y="1484280"/>
            <a:ext cx="1295280" cy="334584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ибыл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006 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---------------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12:14:55Z</dcterms:created>
  <dc:creator>Институт Корпоративных Решений</dc:creator>
  <dc:description/>
  <dc:language>en-US</dc:language>
  <cp:lastModifiedBy>INTELPART</cp:lastModifiedBy>
  <dcterms:modified xsi:type="dcterms:W3CDTF">2005-09-02T07:48:28Z</dcterms:modified>
  <cp:revision>35</cp:revision>
  <dc:subject/>
  <dc:title>Технология управления эффективностью</dc:title>
</cp:coreProperties>
</file>